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0.png" ContentType="image/png"/>
  <Override PartName="/ppt/media/image31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45.jpeg" ContentType="image/jpeg"/>
  <Override PartName="/ppt/media/image46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48.wmf" ContentType="image/x-wmf"/>
  <Override PartName="/ppt/media/image28.png" ContentType="image/png"/>
  <Override PartName="/ppt/media/image29.jpeg" ContentType="image/jpe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6881760" cy="9296280"/>
          </a:xfrm>
          <a:custGeom>
            <a:avLst/>
            <a:gdLst>
              <a:gd name="textAreaLeft" fmla="*/ 360 w 6881760"/>
              <a:gd name="textAreaRight" fmla="*/ 6881400 w 688176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9178">
                <a:moveTo>
                  <a:pt x="5" y="0"/>
                </a:moveTo>
                <a:arcTo wR="5" hR="5" stAng="16200000" swAng="-5400000"/>
                <a:lnTo>
                  <a:pt x="0" y="29173"/>
                </a:lnTo>
                <a:arcTo wR="5" hR="5" stAng="10800000" swAng="-5400000"/>
                <a:lnTo>
                  <a:pt x="21595" y="2917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2982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dt" idx="9"/>
          </p:nvPr>
        </p:nvSpPr>
        <p:spPr>
          <a:xfrm>
            <a:off x="3897000" y="0"/>
            <a:ext cx="29811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9320"/>
                <a:tab algn="l" pos="2773440"/>
                <a:tab algn="l" pos="3697200"/>
                <a:tab algn="l" pos="4622760"/>
                <a:tab algn="l" pos="5546880"/>
                <a:tab algn="l" pos="6470640"/>
                <a:tab algn="l" pos="7396200"/>
                <a:tab algn="l" pos="8319960"/>
                <a:tab algn="l" pos="9244080"/>
                <a:tab algn="l" pos="10169640"/>
                <a:tab algn="l" pos="1062504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9320"/>
                <a:tab algn="l" pos="2773440"/>
                <a:tab algn="l" pos="3697200"/>
                <a:tab algn="l" pos="4622760"/>
                <a:tab algn="l" pos="5546880"/>
                <a:tab algn="l" pos="6470640"/>
                <a:tab algn="l" pos="7396200"/>
                <a:tab algn="l" pos="8319960"/>
                <a:tab algn="l" pos="9244080"/>
                <a:tab algn="l" pos="10169640"/>
                <a:tab algn="l" pos="10625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ldImg"/>
          </p:nvPr>
        </p:nvSpPr>
        <p:spPr>
          <a:xfrm>
            <a:off x="1117440" y="696600"/>
            <a:ext cx="4646880" cy="34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7160" bIns="471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2240" cy="41814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8827920"/>
            <a:ext cx="2982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sldNum" idx="10"/>
          </p:nvPr>
        </p:nvSpPr>
        <p:spPr>
          <a:xfrm>
            <a:off x="3897000" y="8829720"/>
            <a:ext cx="29811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9320"/>
                <a:tab algn="l" pos="2773440"/>
                <a:tab algn="l" pos="3697200"/>
                <a:tab algn="l" pos="4622760"/>
                <a:tab algn="l" pos="5546880"/>
                <a:tab algn="l" pos="6470640"/>
                <a:tab algn="l" pos="7396200"/>
                <a:tab algn="l" pos="8319960"/>
                <a:tab algn="l" pos="9244080"/>
                <a:tab algn="l" pos="10169640"/>
                <a:tab algn="l" pos="1062504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9320"/>
                <a:tab algn="l" pos="2773440"/>
                <a:tab algn="l" pos="3697200"/>
                <a:tab algn="l" pos="4622760"/>
                <a:tab algn="l" pos="5546880"/>
                <a:tab algn="l" pos="6470640"/>
                <a:tab algn="l" pos="7396200"/>
                <a:tab algn="l" pos="8319960"/>
                <a:tab algn="l" pos="9244080"/>
                <a:tab algn="l" pos="10169640"/>
                <a:tab algn="l" pos="10625040"/>
              </a:tabLst>
            </a:pPr>
            <a:fld id="{CBF0619F-5CDD-4EE5-B998-856915B4EE8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47680" y="696960"/>
            <a:ext cx="458784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88680" y="4416480"/>
            <a:ext cx="550548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85" name="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9320"/>
                <a:tab algn="l" pos="2773440"/>
                <a:tab algn="l" pos="3697200"/>
                <a:tab algn="l" pos="4622760"/>
                <a:tab algn="l" pos="5546880"/>
                <a:tab algn="l" pos="6470640"/>
                <a:tab algn="l" pos="7396200"/>
                <a:tab algn="l" pos="8319960"/>
                <a:tab algn="l" pos="9244080"/>
                <a:tab algn="l" pos="10169640"/>
                <a:tab algn="l" pos="10625040"/>
              </a:tabLst>
            </a:pPr>
            <a:fld id="{32E9062B-5E56-4752-9B97-0A7B5C588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825F8-84A8-4CF7-BC2F-A581D9F0D2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B75FC-7C3E-4DC9-920B-A2075B33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3EDB8-1075-4573-B4FE-7957AB2F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7DB48-64E6-489C-93CE-782185B91D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DF32D-6774-44D5-B398-E251BD8BE3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26B61-59E3-43C9-97B7-75C9262D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C71BA-CFCB-44B7-B4D3-8993CACA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684D3-70D8-4027-B488-8E6B6DAE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6E674-9206-4235-851C-FEFBCF2F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AFA7A-CB38-47BF-A2D5-09570BDB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40328-1B5D-4072-BAAE-F4611FCC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7D3D0-CF8D-4854-AF01-DFBD0D88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FF1C8-6B3B-4A74-8462-8B51658A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214C1-A243-4F9F-822C-5617DD11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53279-35BC-424F-B3B3-6084BF1A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C90B1-5B1C-4F33-B1ED-5B9F3012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4CB42-0EEA-4D9C-946F-FE7F81D89D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C8A8-8E56-404F-9520-40178B1B27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D1A4-D78C-4816-87BB-AAAF0351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2FFD-729A-475D-A4CF-E85E506C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52BE-3D20-4170-AEEB-17E74765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B24E-0DF4-4F72-9133-0B355AF5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1E794-86B8-4823-90EC-32E10031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4D2C-F89E-42B4-813C-A080CCA4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295A-58AB-4B1D-AC98-65336175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643F-7FFA-4F77-8166-51E6FB51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E3FB-D455-4E17-998C-00FE3724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2AF0-A18F-4AA0-8DDC-437D7094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00CA-D4E8-4914-BC5C-934F7543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CE73-AD1A-4C02-8CC6-911C9C9F75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C9B780-B68F-4259-8847-7601E337AC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CC2BF3-74FE-4BC5-AEA7-87C3646F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1BD732-4705-49F3-9E08-B9690909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9B134-A8D2-4589-A828-D2EF1ACA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9D33C8-ECCA-417C-B4DB-4EFA4115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D256A9-D092-418B-80EA-84B508BC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A7CDE-1DDC-4271-8E4F-948E9CCA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774E6B-2A26-4FD2-BE8A-EE3336DE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18365-70E7-4687-9AAA-307149F5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CC9363-FB4D-4654-B291-20A9E66F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04E546-0577-4AFA-B899-2071065E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2CB5A5-94D0-4E57-9AE6-522796A6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E3AB6B-9582-4A7C-A25C-5291D730FE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0DE67-D1B9-41EB-85A0-6A81ED90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9F283-4053-4E09-9C95-6241A7A4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73CCF-BC77-41CC-A426-F7E404E3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9CF1E-0DEB-4F56-A337-4D7DB61E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5B9D6-F87A-4890-A909-68F7B491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C6E6FD-88A5-4154-93F9-3FDEFC2006C6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61640" cy="646200"/>
              <a:chOff x="-19080" y="203040"/>
              <a:chExt cx="9161640" cy="6462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8080"/>
                <a:ext cx="144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53" name=""/>
            <p:cNvGrpSpPr/>
            <p:nvPr/>
          </p:nvGrpSpPr>
          <p:grpSpPr>
            <a:xfrm>
              <a:off x="-19080" y="203040"/>
              <a:ext cx="9161640" cy="646200"/>
              <a:chOff x="-19080" y="203040"/>
              <a:chExt cx="9161640" cy="646200"/>
            </a:xfrm>
          </p:grpSpPr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20000">
                <a:off x="-18720" y="478080"/>
                <a:ext cx="144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DA16D7C0-500E-46EA-8818-B70D9FBBEF00}" type="slidenum">
              <a: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03" name=""/>
            <p:cNvGrpSpPr/>
            <p:nvPr/>
          </p:nvGrpSpPr>
          <p:grpSpPr>
            <a:xfrm>
              <a:off x="-19080" y="203040"/>
              <a:ext cx="9161640" cy="646200"/>
              <a:chOff x="-19080" y="203040"/>
              <a:chExt cx="9161640" cy="646200"/>
            </a:xfrm>
          </p:grpSpPr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20000">
                <a:off x="-18720" y="478080"/>
                <a:ext cx="144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10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AECDE953-77B6-43B9-8E92-9CC7B1DC26A8}" type="slidenum">
              <a: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716E4-1F3B-4B72-B7FF-19630EAD0A22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828800" y="1600200"/>
            <a:ext cx="54864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ixed-Signal Circui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esign for Simple Spiking Neuron Mod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3429000"/>
            <a:ext cx="34290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bdullah H. Ozc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amshi Chatl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CE 6332 – Fall 2009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University of Virgini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4343400" cy="3429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4572000" y="1600200"/>
            <a:ext cx="4343400" cy="3429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14400" y="68580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imulation Resul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4124160" cy="3456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572000" y="1828800"/>
            <a:ext cx="411480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572000" y="1816200"/>
            <a:ext cx="4572000" cy="36702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228600" y="1752480"/>
            <a:ext cx="44625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600200" y="914400"/>
            <a:ext cx="60199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4800600" cy="48006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800600" y="114300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4114800" cy="5229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4114800" y="1143000"/>
            <a:ext cx="45244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6320" y="1371600"/>
            <a:ext cx="8153280" cy="41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C results without gain booster stag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6782040" cy="527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143000" y="9144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C results using gain booster stag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304920" y="1495440"/>
            <a:ext cx="8153280" cy="53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57200" y="1371600"/>
            <a:ext cx="3657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371600"/>
            <a:ext cx="3429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DC (4bit) Summar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Technology:  0.6 u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Avg Power:   14.2 mW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Max Power:  23.9 mW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Transistors used: 52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Supply Voltage: 5 V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Constanti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alog Range: 1 V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Constanti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ampling Rate: 100 MHz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-9360" y="4648320"/>
            <a:ext cx="9153360" cy="157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49480" y="1082520"/>
            <a:ext cx="2050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067360" y="4371840"/>
            <a:ext cx="3162240" cy="1114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143000" y="2425680"/>
            <a:ext cx="50292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10^11 neurons, each neuron 10-10^5 synaps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Uses less power than your refrigerator ligh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Power matters; decreasing energy/spik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1133640" y="4057560"/>
            <a:ext cx="298116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6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zhikevich’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Spiking Neuron Mod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219320" y="2209680"/>
            <a:ext cx="66294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VLSI Circuit of Izhikevich’s Model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7561440" cy="37623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85800" y="6095880"/>
            <a:ext cx="815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(Jayawan H. B. Wijekon, Piotr Dudek (2007).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piking and Bursting Firing Patterns of a Compact VLSI Cortical Neuron Circuit, Int. Joint   Conference on Neural Network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VLSI Circuit (0.35 μm</a:t>
            </a:r>
            <a:r>
              <a:rPr b="0" lang="en-US" sz="4600" spc="-1" strike="noStrike">
                <a:solidFill>
                  <a:srgbClr val="04617b"/>
                </a:solidFill>
                <a:latin typeface="Wingdings"/>
                <a:ea typeface="Wingdings"/>
              </a:rPr>
              <a:t></a:t>
            </a: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0.6 μm)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4038840" cy="2886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4419720" y="1828800"/>
            <a:ext cx="3762360" cy="28386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80880" y="5029200"/>
            <a:ext cx="1638360" cy="638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457200" y="5943600"/>
            <a:ext cx="1409760" cy="495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2590920" y="1600200"/>
            <a:ext cx="3333600" cy="704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3352680" y="4952880"/>
            <a:ext cx="5353200" cy="8478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8"/>
          <a:stretch/>
        </p:blipFill>
        <p:spPr>
          <a:xfrm>
            <a:off x="2590920" y="5867280"/>
            <a:ext cx="611496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9144000" cy="3402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143000" y="114300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mparator Pa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6629400" cy="3429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371600" y="7779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tlab Resul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85800" y="685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ircuit Resul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7486560" cy="2771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457200" y="4267080"/>
            <a:ext cx="74674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uron Circuit Summary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5638680" cy="2689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066680" y="4876920"/>
            <a:ext cx="4419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Transistors used: 1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142.1  mW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119.29 mW (% 17 decrease 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371600" y="160020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uture Wor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"/>
          <p:cNvSpPr/>
          <p:nvPr/>
        </p:nvSpPr>
        <p:spPr>
          <a:xfrm>
            <a:off x="1828800" y="2971800"/>
            <a:ext cx="4800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ADC, minimizing power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DAC circuit to drive synaptic input curr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Synaptic Modification Circui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* Levy's learning neuron mod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438280" y="1143000"/>
            <a:ext cx="3886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QUESTIONS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3086280" y="19432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657600" y="4800600"/>
            <a:ext cx="2286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371600" y="1371600"/>
            <a:ext cx="320040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ADC Circui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Neuron Circui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Conclus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-9360" y="2743200"/>
            <a:ext cx="9153360" cy="15717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5335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LOG TO DIGITAL CONVER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57200" y="685800"/>
            <a:ext cx="8661240" cy="925560"/>
            <a:chOff x="457200" y="685800"/>
            <a:chExt cx="8661240" cy="925560"/>
          </a:xfrm>
        </p:grpSpPr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457200" y="685800"/>
              <a:ext cx="866124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457200" y="685800"/>
              <a:ext cx="866124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85800" y="2819520"/>
            <a:ext cx="3486240" cy="809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914400" y="3886200"/>
            <a:ext cx="2162160" cy="6858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4122720" y="1954080"/>
            <a:ext cx="433548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210200" cy="4343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5228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omparator Stag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228600" y="1143000"/>
            <a:ext cx="3648240" cy="55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Gain Booster Stag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267080" y="1295280"/>
            <a:ext cx="4400640" cy="42195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33520" y="5983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nstanti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harper Transitions in the outpu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Constanti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ull voltage swing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1143000" y="1371600"/>
            <a:ext cx="184788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5335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XOR Stag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1876320" y="1371600"/>
            <a:ext cx="4524480" cy="45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09480" y="5335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ncoder  Stag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333440" y="1314360"/>
            <a:ext cx="6210360" cy="2800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2971800" y="4572000"/>
            <a:ext cx="3124080" cy="130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8:02:35Z</dcterms:created>
  <dc:creator>vamshichatla</dc:creator>
  <dc:description/>
  <dc:language>en-US</dc:language>
  <cp:lastModifiedBy>hplp</cp:lastModifiedBy>
  <dcterms:modified xsi:type="dcterms:W3CDTF">2009-12-01T16:32:39Z</dcterms:modified>
  <cp:revision>19</cp:revision>
  <dc:subject/>
  <dc:title>Slide 1</dc:title>
</cp:coreProperties>
</file>